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9475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8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9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70C9-324F-4675-8724-7964C40A8A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350A-DB50-47BC-90C3-D37C415526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B11E-1B04-4E49-B89A-48BB5F748A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171B-1598-4E24-A7AA-F7FA471495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AC2F-E4C9-430D-974E-DB721256F2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4DB5-77CB-46D3-B045-E89C5FC243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1E77-975F-42FB-A384-87AB31FC8F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C6B6-93A3-4385-9154-8187694E89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27FA-0F63-44E1-A25D-B63EFDBE10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2FC6-EE11-45FD-B818-5B0F166266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D114-B584-4E9C-BE4E-AC4828D827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931C-0CD1-428A-BFFE-940321219D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906D-EF31-46CA-B889-836C1939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F002-345A-41DD-8216-B82C22D7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AA5D5-6A02-4D05-96E9-4E61CEAB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242C4-F21D-4E28-A89F-AB6979F9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2A58D-E7D0-4D5A-8FDB-BF982AAD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ECBA3-EF5B-42F1-8A65-7178AA7E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D8AAB-EB46-4FCF-8D9E-92140372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D52D5-5D63-4E85-AA53-396AEE57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01C79-5882-4643-BE6C-D2E06CB4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C6359-E45C-42E8-B1B3-094D1767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5FAA4-EE01-4B3E-8DEA-2745038D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FF6EB-EF9A-4AFE-9026-297204B2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6FDD-CD70-494B-9EDE-A003EFE5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774DD-2732-475D-A0E3-1C2A172C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1365F-DD19-4BB5-9EA7-96ABAA1E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BAFAB-E28A-4CEF-AD6D-8118D418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44BF0-AA1E-4BF3-9B00-7A3D73E0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3C183-939A-4AC9-9BFE-7845CA5B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74524-0429-4008-B831-E73A874C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DA77B-0A52-4231-95E5-F9578789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06458-EBA1-4006-9CB7-285C5825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138F7-998C-4E2E-8EEF-916A066A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8270D-3FF4-421E-B893-B41B310B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2049-A0B9-42C6-B0DF-8A1621A3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6A67F-0330-4DBD-B2D0-4F1002D3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86236-AFB4-4679-B812-82B2155C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BA3A2-20FC-4918-BBF7-35F203EA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C16A4-FC26-47F3-8E21-BFC44587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A6426-486B-4FE5-B2F5-DDC43F7D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59539-7474-4A80-9250-F09B55FC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8E021-A7DA-4D9A-AAC0-215E1B3E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93F1E-C638-4647-8E20-31E2CCBC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5F542-C79D-46AE-B443-71F18756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30ECB-DE40-4F4C-B418-96048406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F549-BF27-4C00-A682-07E97C286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557DB-A118-4FB2-89E0-7A96BEBE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C0E36-C62D-45B0-B470-BED97C21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07CA3-5EE7-42F2-BDBE-EE45F67F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7B25C-A550-4571-BD03-C92334DB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D0214-23BA-4CED-AF39-990B8AF0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FB8B9-97E8-4D62-9691-58DA9775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B8606-7CCF-44B7-A1E2-1B2B0F7E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A6F4B-CD63-4826-A410-6D39302F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68795-205A-4276-A988-2C59A70F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3FC02-1C46-469C-B2D1-5F6102E1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35E1-5C6F-44D0-8B82-976C9FD0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80A8D-6FE4-462A-A1F7-A50FE9C7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8CC85-B24D-4449-A232-6B98DBB7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07EA3-3E1A-45A8-BB07-28B3AC1F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C1E8B-7B88-4D62-9394-0C3EA9E5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C7189-9F39-4FC8-B3C2-123F4A16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E843-13BE-42E4-9D5E-99434C8A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F967-A1CE-40C5-A475-4CDC400D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8EEC-898B-43CB-9C97-FE931B53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8BB1-8A60-4955-8225-9F44570E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753B-1BE7-42EB-9504-A4D6CF4F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9B77-4953-404A-B9E1-111FE40E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2690-784B-44FF-AE66-68877D99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A7AD-21FF-4C74-B79F-FACC2CAD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96A1-CD3E-457A-8D77-728183C8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4B94-947A-4169-8261-E76D91F6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0512-EAD3-4074-AB42-CE5EBBB4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4B9FE-CA5B-40B5-8418-5FAB9EB6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2AE17-A4FC-4941-A7CD-2F6923FE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A5BF3-F46B-4B96-AA35-7219C218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689AF-BE5C-48D0-85AC-39880E1D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02150-5322-4789-825D-BA5E962E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DB49-4FD0-4FE8-9FFD-0F74C708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4B39A-CFF1-4D85-B671-7A65DC73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BB664-DA83-4360-A56D-691752B0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308CA-F6D8-422D-9C1F-C79BC1AD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51D4B-98C0-4024-BFE7-F15E40CB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D75FE-9BC3-484D-A55C-DA3EE078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40EB7-453C-41D1-B23F-A4F291BD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E1543-1932-45FC-8FE6-18C21339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8E188-CB80-4FE7-9B4B-800A1B07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044FD-E06D-4470-B56B-029B3D32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3DB83-2E83-4EBD-80DF-B39407C4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2CB1-B636-4F86-BDC1-FEC8D743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61163-0280-4A07-AC01-39E9BE2A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3D4E7-A0CF-490B-B73A-36C1218F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84BDE-1385-4D30-AD8B-BC822598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9A19D-F054-4A6C-970F-FCA9282B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1CF4E-0887-4445-9D54-E61EAA57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4E3C2-E96A-436D-AEC2-2C0E5C51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3878B-27BE-49CE-AC6A-66214544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8CAB5-B563-40E2-9F6F-E62069F6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BDBE9-8469-41B7-B27B-F9986D74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52F23-0BA5-4A20-9DF0-D41BDE10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B2F1-BC32-4DDC-B2B5-04F96DB7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12648-10E8-4CF4-9CCB-46C556CB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DCB90-796F-475E-A23A-BFF4ED6E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2121E-5C18-4A43-9012-22B4F0C3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702CC-625C-40D3-9F57-A6D75AD1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69ADE-D123-4309-A3B4-73AC0029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DDAD7-3415-4320-B729-9AE1373E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BEDE9-39C8-4916-ACB0-A92DBC5F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BBE88-7B32-4A39-B6E2-688F09B6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AA78E-3989-4BA9-BA06-870A9709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B33A4-734E-4CD7-B48D-C74E2118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26A2-8866-4764-ABB4-E9E38B1D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8D8A3-1D81-43E5-A20A-48C03891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6B08C-B51E-4735-8A96-85256FB3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82DF7-6829-4BBA-8D04-5D40C4A7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00AC0-DD00-4E92-8890-FE9312E1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B2B0E-3CE5-4FDA-AECB-3128FB02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FCDBE-1E5E-4576-82A6-12D3297E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F2DEF-7165-4DE2-A3B9-E41C90EB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57FC8-901C-4495-90F3-E30A4EC2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BE56C-FA29-4A99-BCB6-9D0B9F05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4BC6F-467D-482F-BCD2-BE423E3C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3E0A-73D1-427C-B333-41C51C4A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7B27D-A7A7-42DE-A0D8-99C3DF85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6FB55-D061-44AF-BFF9-DBF5195B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E88DF-F629-41A3-8667-5EAE32B9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BEC92-0354-491E-8335-E350CD74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C6FF9-9DCC-445B-BC9B-5FE8A9F3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C2FD1-1C03-4AE5-8954-397AE55C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EB86E-1682-49A7-9279-2E94EAEE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E0A60-15B7-4EC5-8DFE-DA8F4FC9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920F7-C906-4DEC-A3B0-7C4BAF20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18835-61E0-41F5-ADBC-80B6CF90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B022-C37E-4AD3-A7DD-B50FA89F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039C6-372E-4EC4-84C6-28F86D9D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E70EE-FCB8-46C8-A2BF-79E6EEEE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C30B1-0E84-46E7-83E4-50BD24FC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CCFDC-0D24-4D41-90B7-7C4C0FE1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96A23-315C-4F50-9AE6-FD17369C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3ABB7-7FCC-4863-AC12-BA42E646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05F29-E074-434F-A0FC-19DD7EBE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02F2B-E61E-4F46-82DC-B2FEB5B5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02BBE-7056-45B9-B435-E4D95913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B00E7-BADE-4E4C-992D-2611B108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B8FD-1313-4C0D-AD65-F575578A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E83B7-0516-4008-8152-52446CB1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4CD4C-D89C-4C36-B5C3-9E0FEDEB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BA5BA-F861-4A33-A18B-42C77E6F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ED241-C30D-4ABA-B106-3E4BDA82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C71BC-2802-442A-AEF8-6765A722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C4455-D158-46A2-A38C-7F6D234B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16C38-0FBB-4A29-AFB5-10C513A1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6EED8-2776-4E90-B97F-3C20D943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127C3-878D-47A8-9A22-6407D26F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435AA-C1A4-4B1E-AD4B-6920F751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FDCA-9AD7-4475-985C-2C436EB950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845D-F572-48C5-A00B-ECE5B5B9F3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A014-6163-4F45-8220-31778DDFBD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A13C-E8BB-420C-967F-1277EBC90D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809E-9422-48DF-BB4D-509904C50F1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2500-C2E5-43C8-A9C4-2D779AD79F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C074-B7AA-42D1-AD4C-69F8439D74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F85C-C25A-4417-BDA7-CA1DF06B34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F51F-31EC-4473-B880-4EFBC240EC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7BEB-39CB-4886-B93D-1A78749A23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3FBB-9EB8-48A4-A26B-FA1944A2E3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CEA7-5916-4834-8E6F-519FFFDF6A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4"/>
          <p:cNvGrpSpPr/>
          <p:nvPr/>
        </p:nvGrpSpPr>
        <p:grpSpPr>
          <a:xfrm>
            <a:off x="57240" y="3357720"/>
            <a:ext cx="9043920" cy="2079360"/>
            <a:chOff x="57240" y="3357720"/>
            <a:chExt cx="9043920" cy="2079360"/>
          </a:xfrm>
        </p:grpSpPr>
        <p:pic>
          <p:nvPicPr>
            <p:cNvPr id="506" name="Picture 9" descr="U:\09. Strategy and coordination\Presentations\2014 Presentations\watermelons ec_organic_28_big.jpg"/>
            <p:cNvPicPr/>
            <p:nvPr/>
          </p:nvPicPr>
          <p:blipFill>
            <a:blip r:embed="rId1"/>
            <a:stretch/>
          </p:blipFill>
          <p:spPr>
            <a:xfrm>
              <a:off x="57240" y="3357720"/>
              <a:ext cx="3107880" cy="20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10" descr="U:\09. Strategy and coordination\Presentations\2014 Presentations\bread ec_organic_183_big.jpg"/>
            <p:cNvPicPr/>
            <p:nvPr/>
          </p:nvPicPr>
          <p:blipFill>
            <a:blip r:embed="rId2"/>
            <a:stretch/>
          </p:blipFill>
          <p:spPr>
            <a:xfrm>
              <a:off x="3079800" y="3357720"/>
              <a:ext cx="3107880" cy="20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11" descr="C:\Users\mahylou\Desktop\EU_Organic_Logo_Colour_OuterLine_rgb.jpg"/>
            <p:cNvPicPr/>
            <p:nvPr/>
          </p:nvPicPr>
          <p:blipFill>
            <a:blip r:embed="rId3"/>
            <a:srcRect l="10326" t="4040" r="7090" b="7445"/>
            <a:stretch/>
          </p:blipFill>
          <p:spPr>
            <a:xfrm>
              <a:off x="6188040" y="3357720"/>
              <a:ext cx="2913120" cy="20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TextBox 3"/>
          <p:cNvSpPr/>
          <p:nvPr/>
        </p:nvSpPr>
        <p:spPr>
          <a:xfrm>
            <a:off x="1377360" y="1484280"/>
            <a:ext cx="598860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Action Plan for the future of 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organic production in the 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European union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Verdana"/>
              </a:rPr>
              <a:t>State of Play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0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B14D-18A9-4284-9DF0-1D2E928BCC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Conclu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95280" y="2276280"/>
            <a:ext cx="8569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Medium term process (2014-2020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We are making important progres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A strategic framework for the sector, a major priority for the Commiss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vailable at : </a:t>
            </a:r>
            <a:br>
              <a:rPr sz="1600"/>
            </a:b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http://ec.europa.eu/agriculture/organic/eu-policy/european-action-plan/index_en.htm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3059280" y="3357720"/>
            <a:ext cx="285408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Action Plan on the future of Organic Production in Europe </a:t>
            </a:r>
            <a:br>
              <a:rPr sz="3000"/>
            </a:b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(short summary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3348000" y="5381640"/>
            <a:ext cx="21607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ompetitiveness</a:t>
            </a:r>
            <a:br>
              <a:rPr sz="2400"/>
            </a:b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Information on CAP Instru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95280" y="2204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808080"/>
                </a:solidFill>
                <a:latin typeface="Verdana"/>
              </a:rPr>
              <a:t>Recommendation on use of RD funds, Common Fisheries Polic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808080"/>
                </a:solidFill>
                <a:latin typeface="Verdana"/>
              </a:rPr>
              <a:t>End of 2015, adoption of 118 RD programme. All but NL included OF. NL used state aid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808080"/>
                </a:solidFill>
                <a:latin typeface="Verdana"/>
              </a:rPr>
              <a:t>Unit actively involved in the analysis and future modifications. CONCLUDE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808080"/>
                </a:solidFill>
                <a:latin typeface="Verdana"/>
              </a:rPr>
              <a:t>Informative document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fr-BE" sz="1400" spc="-1" strike="noStrike">
                <a:solidFill>
                  <a:srgbClr val="808080"/>
                </a:solidFill>
                <a:latin typeface="Verdana"/>
              </a:rPr>
              <a:t>- see leaflet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808080"/>
                </a:solidFill>
                <a:latin typeface="Verdana"/>
              </a:rPr>
              <a:t>Inclusion of organic farming as a specific theme in calls for tender for information measur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808080"/>
                </a:solidFill>
                <a:latin typeface="Verdana"/>
              </a:rPr>
              <a:t>Done for 2014 ca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808080"/>
                </a:solidFill>
                <a:latin typeface="Verdana"/>
              </a:rPr>
              <a:t>Raising awareness on promotion instrument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808080"/>
                </a:solidFill>
                <a:latin typeface="Verdana"/>
              </a:rPr>
              <a:t>Ongo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ompetitiveness</a:t>
            </a:r>
            <a:br>
              <a:rPr sz="2400"/>
            </a:b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Awareness of EU scheme and log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95280" y="2060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Periodical surveys on consumers awareness of the logo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akes place every two years through the Eurobarometer; in 2017 new last survey. Publication foreseen in 2018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petition of Questions so as to see the evolution/tren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Survey on consumers awareness and confidence in and understanding of the schem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Possibly in the frame of the new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urobarometer 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contrac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2017-2018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Revision of Green Public Procurement criteria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Revision process started already some time ago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Revised GPP criteria for food and catering planned to be adopted end of 2017 early 2018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e promotion of organic products is a main point of the current criteria and, according to the current draft of the criteria revision, it will be strengthened in the futur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ompetitiveness</a:t>
            </a:r>
            <a:br>
              <a:rPr sz="2400"/>
            </a:b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Research and Innov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95280" y="2204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Recommendation to stakeholders to set up a database on availability of organic seeds.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074240" indent="-21456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Similar initiatives encouraged for aquaculture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Conference on research and innovation priorities - Expo Milano – May 2015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074240" indent="-21456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Very successful ev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074240" indent="-21456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Wide particip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074240" indent="-21456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The results will fit into the H2020 work programm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698400" indent="-26856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Organic in Horizon 2020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074240" indent="-21456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Close collaboration with other Commission teams for the preparation of the work programm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074240" indent="-21456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Organic is increasingly present and visibl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074240" indent="-21456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Work programme info week 2 week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ompetitiveness</a:t>
            </a:r>
            <a:br>
              <a:rPr sz="2400"/>
            </a:b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Research and Innov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08000" y="2204640"/>
            <a:ext cx="885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808080"/>
                </a:solidFill>
                <a:latin typeface="Verdana"/>
              </a:rPr>
              <a:t>Regular facts and figures on organic production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Verdana"/>
              </a:rPr>
              <a:t>During 2014 and 2015: enhanced collaboration with EUROSTAT and simplification of the questionnaire;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Verdana"/>
              </a:rPr>
              <a:t>Results: more statistics available and published on EUROSTAT's website (by November 2015, all MS provided – at least some - data).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Verdana"/>
              </a:rPr>
              <a:t>Ongoing work: clarification of definitions in order to improve data quality and consistency.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Verdana"/>
              </a:rPr>
              <a:t>New doc already online covering till 2015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808080"/>
                </a:solidFill>
                <a:latin typeface="Verdana"/>
              </a:rPr>
              <a:t>Study on the added-value along the organic food supply chain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Survey on the attractiveness of the organic scheme for small farme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onsumer awareness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95280" y="2204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Encourage MS to explore synergies of the accreditation bodies and competent authoriti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Discussion in RCOP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The revision of guidelines on control is ongoing and will be completed once the new regulation is approve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Liaising with Acreditation Bodies for Control Bodies in Third Countri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Participate in major events with relevant partners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808080"/>
                </a:solidFill>
                <a:latin typeface="Verdana"/>
              </a:rPr>
              <a:t>Integration of organic production legislation in the TARIC databas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808080"/>
                </a:solidFill>
                <a:latin typeface="Verdana"/>
              </a:rPr>
              <a:t>In place since January 2017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onsumer awareness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95280" y="1844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Electronic certification for import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lectronic certificate operative as from April 2017;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ransitional period foreseen till October 2017 for paper and electronic version.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Fully enforced and compulsor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Electronic certification for internal marke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evelopment started in 2017. Operational in 2018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Objective: to create a publicly available database on organic certificates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Documentary evidence translated into IT tools + some new features.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Targetted workshops to assist MS with fraud prevention polic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Liaising with 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SANTE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(Food Fraud Network) and OLAF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808080"/>
                </a:solidFill>
                <a:latin typeface="Verdana"/>
              </a:rPr>
              <a:t>HLConference on fraud controls July 2015, Milan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Conference on good practices to be held in 2018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Verdana"/>
              </a:rPr>
              <a:t>Compedia/casebook of fraud cas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Follow up to the conferenc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External dimension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23640" y="177336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808080"/>
                </a:solidFill>
                <a:latin typeface="Verdana"/>
              </a:rPr>
              <a:t>Support and cooperate with trade partners from developing countri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49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808080"/>
                </a:solidFill>
                <a:latin typeface="Verdana"/>
              </a:rPr>
              <a:t>Liaising with DEVCO; first results are appear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Plurilateral agreement among leading organic partners in the World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Long term proces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A priority to lead the agenda for convergence of standard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Statistical data on trade with third countri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No data on trad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E certification will provide some inform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808080"/>
                </a:solidFill>
                <a:latin typeface="Verdana"/>
              </a:rPr>
              <a:t>Codex Alimentariu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49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808080"/>
                </a:solidFill>
                <a:latin typeface="Verdana"/>
              </a:rPr>
              <a:t>Aquacultur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49"/>
              </a:spcBef>
              <a:buClr>
                <a:srgbClr val="80808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808080"/>
                </a:solidFill>
                <a:latin typeface="Verdana"/>
              </a:rPr>
              <a:t>Organic wine ru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Verdana"/>
              </a:rPr>
              <a:t>Aim to increase protection of EU organic logo in 3rd countri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- Protection of EU logo in international agreement (Organic Trade agreement with Chile)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PLANCHENSTEINER Daniela (AGRI)</dc:creator>
  <dc:description/>
  <dc:language>en-US</dc:language>
  <cp:lastModifiedBy>ROBERT Francoise (AGRI)</cp:lastModifiedBy>
  <cp:lastPrinted>2015-12-16T07:40:50Z</cp:lastPrinted>
  <dcterms:modified xsi:type="dcterms:W3CDTF">2017-12-01T10:56:30Z</dcterms:modified>
  <cp:revision>259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